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A111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210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HHC 30t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5880" y="1892160"/>
            <a:ext cx="49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960" y="6434280"/>
            <a:ext cx="8915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AK                                                                                                              28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3320" y="1892160"/>
            <a:ext cx="8737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        1 OCT        FAD                   52,000.00                                     52,000.00  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4520" y="2151000"/>
            <a:ext cx="8500680" cy="19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     15 OCT        JON9386TT                                70.00                  51,930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           18 OCT        COL4089TT                            1,442.00                 50,488.00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100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                 19 OCT        WAL0123TT                            5,000.00                45,488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                 19 OCT        WIL9701TT                             1,400.00                 44,088.00                                                                                       10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                 23 OCT        JOH4093TT                            3,290.00                 40,798.00                                                                                       1002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8800" y="216000"/>
            <a:ext cx="856944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A111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2300                                                                    FUND CONTROL RECORD                                                      UNIT/ACTIVITY HHC 30t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8600" y="643428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AK                                                                                                              29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2960" y="1892160"/>
            <a:ext cx="870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        1 OCT        FAD                  300,000.00                                   300,000.00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760" y="2151000"/>
            <a:ext cx="8561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     23 OCT        PRC1005                                240,000.00               60,00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**C21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8800" y="216000"/>
            <a:ext cx="856944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A111 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2500                                                                    FUND CONTROL RECORD                                                      UNIT/ACTIVITY HHC 30t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600" y="643428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                               30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13320" y="1892160"/>
            <a:ext cx="8737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        1 OCT        FAD                   30,000.00                                     30,000.00  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760" y="2151000"/>
            <a:ext cx="8561880" cy="16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       3 OCT        PRC1004                                  182.00                   29,818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**D15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           11 OCT    W54MID**004                           10,000.00                 19,818.00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                  18 OCT    W54MID**003                             1,000.00                 18,818.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A321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2300                                                                    FUND CONTROL RECORD                                                      UNIT/ACTIVITY 54th MED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8600" y="643428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                             31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13320" y="1892160"/>
            <a:ext cx="8737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        1 OCT        FAD                  200,000.00                                   200,000.00 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760" y="2151000"/>
            <a:ext cx="85618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       7 OCT        PRC1009                                13,200.00               186,80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**C17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                 16 OCT        PRC1002                               100,000.00               86,80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**C17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9960" y="291960"/>
            <a:ext cx="849636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A321 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2500                                                                    FUND CONTROL RECORD                                                      UNIT/ACTIVITY  54th MED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8600" y="643428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                               32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13320" y="1892160"/>
            <a:ext cx="88772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        1 OCT        FAD                  8,000.00                                           8,000.00     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7840" y="2151000"/>
            <a:ext cx="74966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     15 OCT    W54MED**002                              1,500.00                  6,50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 A321         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 2600                                                                   FUND CONTROL RECORD                                                      UNIT/ACTIVITY   54th MED B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8600" y="643428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AK                                                                                                                 33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13320" y="1892160"/>
            <a:ext cx="8772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                 1 OCT        FAD                   7,000.00                                          7,000.00                                                                                       INI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6760" y="2151000"/>
            <a:ext cx="85618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                   7 OCT        PRC1007                                     710.00                   6,290.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**C17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08:41:56Z</dcterms:created>
  <dc:creator>Soldier Support Institute</dc:creator>
  <dc:description/>
  <dc:language>en-US</dc:language>
  <cp:lastModifiedBy>Administrator</cp:lastModifiedBy>
  <cp:lastPrinted>2000-01-28T19:41:53Z</cp:lastPrinted>
  <dcterms:modified xsi:type="dcterms:W3CDTF">2005-04-07T13:20:44Z</dcterms:modified>
  <cp:revision>22</cp:revision>
  <dc:subject/>
  <dc:title>No Slide Title</dc:title>
</cp:coreProperties>
</file>